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CEA-ED4C-4927-BDAD-0C2CDC7F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29C-992D-4B3C-B4A0-CCB5D045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7E5-0921-4BF9-A745-4EA2F6E5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E81-F849-4AC4-A0A3-8F851D6D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F2B-9F7F-4660-B2CC-07DEC9FD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992-0E6A-41E8-81D2-608CD0E7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226-AF73-48D1-8BF6-FA3549D2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80D-117C-4D58-BD81-65A2CAAA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0F3-AAB5-480F-AB8B-5DD1B0D6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9BB-DDFB-4D78-A233-4EF83C3D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533-3447-41A7-A778-C2E2D322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892-A227-492C-96CE-0B78E698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4A6A-48F5-4070-AC43-008E1CCDB4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ele T\My Documents\My Pictures\plants and animals science\March0201.jpg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308240" y="977760"/>
            <a:ext cx="6527520" cy="4902480"/>
          </a:xfrm>
          <a:prstGeom prst="rect">
            <a:avLst/>
          </a:prstGeom>
          <a:ln w="57240">
            <a:solidFill>
              <a:srgbClr val="33cccc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1143000" y="22860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Cooper Black"/>
              </a:rPr>
              <a:t>Life at the po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Cloud"/>
          <p:cNvSpPr/>
          <p:nvPr/>
        </p:nvSpPr>
        <p:spPr>
          <a:xfrm>
            <a:off x="0" y="4038480"/>
            <a:ext cx="3124080" cy="26002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38080" y="449568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at things do you think you would find in a po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Documents and Settings\Adele T\My Documents\My Pictures\plants and animals science\Tadpole5.jpg"/>
          <p:cNvPicPr/>
          <p:nvPr/>
        </p:nvPicPr>
        <p:blipFill>
          <a:blip r:embed="rId1"/>
          <a:stretch/>
        </p:blipFill>
        <p:spPr>
          <a:xfrm>
            <a:off x="1523880" y="1447920"/>
            <a:ext cx="6324840" cy="42670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Adele T\My Documents\My Pictures\plants and animals science\Tadpole12.jpg"/>
          <p:cNvPicPr/>
          <p:nvPr/>
        </p:nvPicPr>
        <p:blipFill>
          <a:blip r:embed="rId1"/>
          <a:stretch/>
        </p:blipFill>
        <p:spPr>
          <a:xfrm>
            <a:off x="1327320" y="2444760"/>
            <a:ext cx="6489360" cy="196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Adele T\My Documents\My Pictures\plants and animals science\TadpoleShortLegs.jpg"/>
          <p:cNvPicPr/>
          <p:nvPr/>
        </p:nvPicPr>
        <p:blipFill>
          <a:blip r:embed="rId1"/>
          <a:stretch/>
        </p:blipFill>
        <p:spPr>
          <a:xfrm>
            <a:off x="393840" y="1333440"/>
            <a:ext cx="835632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Adele T\My Documents\My Pictures\plants and animals science\Legs3.jpg"/>
          <p:cNvPicPr/>
          <p:nvPr/>
        </p:nvPicPr>
        <p:blipFill>
          <a:blip r:embed="rId1"/>
          <a:stretch/>
        </p:blipFill>
        <p:spPr>
          <a:xfrm>
            <a:off x="895320" y="1701720"/>
            <a:ext cx="7353360" cy="3454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685800" y="2286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ff"/>
                </a:solidFill>
                <a:latin typeface="Comic Sans MS"/>
              </a:rPr>
              <a:t>What has happened to the tadpo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Adele T\My Documents\My Pictures\plants and animals science\FrontLeg.jpg"/>
          <p:cNvPicPr/>
          <p:nvPr/>
        </p:nvPicPr>
        <p:blipFill>
          <a:blip r:embed="rId1"/>
          <a:stretch/>
        </p:blipFill>
        <p:spPr>
          <a:xfrm>
            <a:off x="1022400" y="1631880"/>
            <a:ext cx="7099200" cy="35942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Adele T\My Documents\My Pictures\plants and animals science\Frog.jpg"/>
          <p:cNvPicPr/>
          <p:nvPr/>
        </p:nvPicPr>
        <p:blipFill>
          <a:blip r:embed="rId1"/>
          <a:stretch/>
        </p:blipFill>
        <p:spPr>
          <a:xfrm>
            <a:off x="1085760" y="762120"/>
            <a:ext cx="6972480" cy="5333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3520" y="304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Goudy Stout"/>
              </a:rPr>
              <a:t>What is the tadpole beginning to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Adele T\My Documents\My Pictures\plants and animals science\Froglets.jpg"/>
          <p:cNvPicPr/>
          <p:nvPr/>
        </p:nvPicPr>
        <p:blipFill>
          <a:blip r:embed="rId1"/>
          <a:stretch/>
        </p:blipFill>
        <p:spPr>
          <a:xfrm>
            <a:off x="1460520" y="1733400"/>
            <a:ext cx="6222960" cy="339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Adele T\My Documents\My Pictures\plants and animals science\July0402.jpg"/>
          <p:cNvPicPr/>
          <p:nvPr/>
        </p:nvPicPr>
        <p:blipFill>
          <a:blip r:embed="rId1"/>
          <a:stretch/>
        </p:blipFill>
        <p:spPr>
          <a:xfrm>
            <a:off x="1650960" y="1365120"/>
            <a:ext cx="5842080" cy="41277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3"/>
          <p:cNvSpPr/>
          <p:nvPr/>
        </p:nvSpPr>
        <p:spPr>
          <a:xfrm>
            <a:off x="152280" y="228600"/>
            <a:ext cx="3657600" cy="2209680"/>
          </a:xfrm>
          <a:prstGeom prst="wedgeRoundRectCallout">
            <a:avLst>
              <a:gd name="adj1" fmla="val 51694"/>
              <a:gd name="adj2" fmla="val 7097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0880" y="5335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Comic Sans MS"/>
              </a:rPr>
              <a:t>I hope you enjoyed the show all about my life. What things can you rememb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ele T\My Documents\My Pictures\plants and animals science\frogspawn_456x352.jpg"/>
          <p:cNvPicPr/>
          <p:nvPr/>
        </p:nvPicPr>
        <p:blipFill>
          <a:blip r:embed="rId1"/>
          <a:stretch/>
        </p:blipFill>
        <p:spPr>
          <a:xfrm>
            <a:off x="1965240" y="1417680"/>
            <a:ext cx="5211720" cy="40226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3"/>
          <p:cNvSpPr/>
          <p:nvPr/>
        </p:nvSpPr>
        <p:spPr>
          <a:xfrm>
            <a:off x="6477120" y="380880"/>
            <a:ext cx="2438280" cy="3505320"/>
          </a:xfrm>
          <a:prstGeom prst="wedgeRoundRectCallout">
            <a:avLst>
              <a:gd name="adj1" fmla="val -80662"/>
              <a:gd name="adj2" fmla="val 27217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705720" y="685800"/>
            <a:ext cx="205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Demi"/>
              </a:rPr>
              <a:t>These are my babies. They are like eggs but have a special name. Do you know what they are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ele T\My Documents\My Pictures\plants and animals science\Frogspawn_closeup.jpg"/>
          <p:cNvPicPr/>
          <p:nvPr/>
        </p:nvPicPr>
        <p:blipFill>
          <a:blip r:embed="rId1"/>
          <a:stretch/>
        </p:blipFill>
        <p:spPr>
          <a:xfrm>
            <a:off x="343080" y="19044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:\Documents and Settings\Adele T\My Documents\My Pictures\plants and animals science\Frogspawn1.jpg"/>
          <p:cNvPicPr/>
          <p:nvPr/>
        </p:nvPicPr>
        <p:blipFill>
          <a:blip r:embed="rId1"/>
          <a:stretch/>
        </p:blipFill>
        <p:spPr>
          <a:xfrm>
            <a:off x="1308240" y="977760"/>
            <a:ext cx="6527520" cy="4902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:\Documents and Settings\Adele T\My Documents\My Pictures\plants and animals science\frogspawn3.jpg"/>
          <p:cNvPicPr/>
          <p:nvPr/>
        </p:nvPicPr>
        <p:blipFill>
          <a:blip r:embed="rId1"/>
          <a:stretch/>
        </p:blipFill>
        <p:spPr>
          <a:xfrm>
            <a:off x="1308240" y="977760"/>
            <a:ext cx="6527520" cy="4902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14400" y="2286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cc33"/>
                </a:solidFill>
                <a:latin typeface="Tempus Sans ITC"/>
              </a:rPr>
              <a:t>DO YOU NOTICE ANY CHANG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ele T\My Documents\My Pictures\plants and animals science\frogspawn4.jpg"/>
          <p:cNvPicPr/>
          <p:nvPr/>
        </p:nvPicPr>
        <p:blipFill>
          <a:blip r:embed="rId1"/>
          <a:stretch/>
        </p:blipFill>
        <p:spPr>
          <a:xfrm>
            <a:off x="1308240" y="977760"/>
            <a:ext cx="6527520" cy="49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Adele T\My Documents\My Pictures\plants and animals science\FeedingFrenzy.jpg"/>
          <p:cNvPicPr/>
          <p:nvPr/>
        </p:nvPicPr>
        <p:blipFill>
          <a:blip r:embed="rId1"/>
          <a:stretch/>
        </p:blipFill>
        <p:spPr>
          <a:xfrm>
            <a:off x="1308240" y="977760"/>
            <a:ext cx="6527520" cy="4902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:\Documents and Settings\Adele T\My Documents\My Pictures\plants and animals science\Tadpole9.jpg"/>
          <p:cNvPicPr/>
          <p:nvPr/>
        </p:nvPicPr>
        <p:blipFill>
          <a:blip r:embed="rId1"/>
          <a:stretch/>
        </p:blipFill>
        <p:spPr>
          <a:xfrm>
            <a:off x="1866960" y="1568520"/>
            <a:ext cx="5410080" cy="3720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Documents and Settings\Adele T\My Documents\My Pictures\plants and animals science\Tadpole8.jpg"/>
          <p:cNvPicPr/>
          <p:nvPr/>
        </p:nvPicPr>
        <p:blipFill>
          <a:blip r:embed="rId1"/>
          <a:stretch/>
        </p:blipFill>
        <p:spPr>
          <a:xfrm>
            <a:off x="2647800" y="819000"/>
            <a:ext cx="3848400" cy="5220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52280" y="533520"/>
            <a:ext cx="2590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cc"/>
                </a:solidFill>
                <a:latin typeface="Arial Rounded MT Bold"/>
              </a:rPr>
              <a:t>Look closely at the tadpoles.What can you se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1:42:15Z</dcterms:created>
  <dc:creator>Gareth</dc:creator>
  <dc:description/>
  <dc:language>en-US</dc:language>
  <cp:lastModifiedBy>Laura McDow</cp:lastModifiedBy>
  <dcterms:modified xsi:type="dcterms:W3CDTF">2010-07-29T10:08:34Z</dcterms:modified>
  <cp:revision>4</cp:revision>
  <dc:subject/>
  <dc:title>PowerPoint Presentation</dc:title>
</cp:coreProperties>
</file>